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B56D-47A3-420C-B465-B24D8257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378-6186-4486-A5F2-B3FC309F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3C08-7944-43BB-BE26-E9FF41FD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35C-E143-47F2-90D2-0A0DE1A9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930C-A620-46F0-8127-2A11C490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8853-5EFE-41A5-B1D7-A201EA1F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A485-C004-4C7B-916F-E238421E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0879-8C47-467A-B548-0719017B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7DEB-0CAC-4013-8541-CCE1B9EE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94B9-5439-4AFC-8F01-A5C48AC9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A335-250E-4D4E-8722-7713D86C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45A-69C9-49F6-AA51-6A30CF91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3870-43F8-459E-A170-A72A9B14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43B5-567D-45AB-8365-BF9BB258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4694-DC93-49ED-808C-A53CF36F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F43F-2D49-456D-95FC-9966ABD6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6A8D-D93E-408A-A3F6-F68FE2EC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05DA-7948-4D56-8DD7-8EB4040D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DFC-3690-4629-B896-BD66F182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90F-81CE-4292-8654-10BC0190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0612-31EF-4958-B199-698E1562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DF0D-8868-4D46-A231-A3EC5158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DED-E86D-4C3A-AC7D-CA47B53E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859-9104-41C4-B0F0-2B151CF0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F4C2-FDBB-4E67-85B5-E22751F35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:\paint.GIF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6DA3-0CDA-4AA5-B5D0-CFF6E633B2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Les Verbes Pronominaux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E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________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Je me ren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à l’école. = Je vais à l’éco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u te me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ravailler. = Tu commences à travaill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ous nous souvenons 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otre vogage en Fr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l se moqu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ujours de moi!  :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oici quelques verbes pronominaux idiomatiqu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’agir de (“il”)  to be abou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’attendre à  to exp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demander  to wo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douter de   to susp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’en aller  to go a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mettre en colère  to get ang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mettre en route  to start ou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passer  to happ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passer de  to do withou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rendre compte   to reali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servir de  to 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tirer d’affaire  to get along, to manage  :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hrase déclarative affirma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épêches aujourd’h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ou are in a hurry tod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hrase déclarative néga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 ne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épêches pas aujourd’h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ou are not in a hurry tod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: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Phrase interrogative affirma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épêches-tu aujourd’hu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re you in a hurry tod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rase interrogative négativ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épêches-tu pas aujourd’hu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ren’t you in a hurry tod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Note que le pronom réfléchi reste directement devant le verbe.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ommande affirma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épêche-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o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ujourd’hui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urry up today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épêche pas aujourd’hui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on’t hurry today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Avec la phrase impérative affirmative, le pronom réfléchi attache à la fin du verbe et le </a:t>
            </a:r>
            <a:r>
              <a:rPr b="0" i="1" lang="fr-FR" sz="3200" spc="-1" strike="noStrike" u="sng">
                <a:solidFill>
                  <a:srgbClr val="ffffff"/>
                </a:solidFill>
                <a:uFillTx/>
                <a:latin typeface="Tahoma"/>
              </a:rPr>
              <a:t>te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change à </a:t>
            </a:r>
            <a:r>
              <a:rPr b="0" i="1" lang="fr-FR" sz="3200" spc="-1" strike="noStrike" u="sng">
                <a:solidFill>
                  <a:srgbClr val="ffffff"/>
                </a:solidFill>
                <a:uFillTx/>
                <a:latin typeface="Tahoma"/>
              </a:rPr>
              <a:t>toi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.   :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Infiniti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’adore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repos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us n’aimons pas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dépêch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 est difficile de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tai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n classe.  :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u passé composé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ur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o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es verbes pronominaux, l’auxiliaire est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êt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 verbe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éfléch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t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éciproqu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on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’acco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u participe passé avec le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omplément d’objet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irect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écéden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 verb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diomatiqu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ont l’accord avec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e suj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: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lessé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verbs use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êt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s auxiliai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est blessée. (Anne hurt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hersel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herself)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rect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est blessé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eflex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eciproc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erbs make agreement with a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eceding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rect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obje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: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nin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éveillé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à 6h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evé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ut de sui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ant de s’habiller, ell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avé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t ell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rossé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 dent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is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à descendre mais ell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rêté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rce que le téléphone a sonné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’était son amie Michel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 deux fill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n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lé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endant 10 minutes.  Après ce coup de téléphone, Janine a dû 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épêcher.: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onnez une phrase équivalente en français avec un verbe pronomina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 Je mets mes vête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 m’habil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 Comment vont-il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ent se sentent-il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 Nous sortons du lit vers sept heures du mat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us nous levons vers sept heures du mat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 Nice est dans le Mid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ce se trouve dans le Mid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Allez au lit, mes enfant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chez-vous, mes enfants!  :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Chaque verbe transitif peut transformer dans un verbe pronominal (Un verbe transitif est un qui utilise un objet direct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arez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regard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la phot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(Il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l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egarde.) He looks at the photo, at i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regarde. He looks 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imsel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 promèn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le chi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 She walk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he do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mène.  She takes a walk.  (She walks herself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mère habille sa fille. The mother dress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er daugh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mère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’ habille. The mother gets dressed. (She dress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ersel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 flic arrête la voiture. The cop stops the c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voiture s’arrête.  The car stops (itself).  :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tilisant l’inversion, demandez à Mme. Bell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 comment elle se porte aujourd’hu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ame, comment vous portez-vous aujourd’hu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 si elle s’amu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ame, vous amusez-vou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 quand elle se lè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ame, quand vous levez-vou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 pourquoi elle se dépêch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ame, pourquoi vous dépêchez-vou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 si elle sait où se trouve la bibliothèq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ame, savez-vous où se trouve la bibliothèque?: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mandez à un(e) ami(e) de faire les choses suivante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 Se lever de bonne he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ève-toi de bonne he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 Se laver tout de sui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ve-toi tout de sui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 S’habiller vi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bille-toi vi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 Ne pas se dépêch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 te dépêche p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 Ne pas se maquiller en clas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 te maquille pas en classe.: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0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épondez à chaque question par une phrase complète en françai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.  Vous lavez-vous tous les jours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.  Comment s’appelle ta cousine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.  Allons-nous nous amuser demain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4.  Dans quelle ville se trouve le Louvre et le Sacré-Cœur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5.  À quelle heure te couches-tu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6.  Où est-ce que je peux m’asseoir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7.  Vous habillez-vous généralement le matin où le soir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8.  Se lève-t-on ou s’assied-on quand on entend l’hymne national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9. Où vous trouvez-vous maintenant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0.  Que faites-vous quand vous êtes fatigué(e)?  :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7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2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7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2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7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efaites ces phrases au passé composé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.  Elle se fâche à l’écol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.  Ils se blessent au match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.  Nous nous brossons les cheveux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4.  Elle mange une pomm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5.  La mère se maquille.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6.  Ils s’endormen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7.  Elles s’écrivent des lettr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8.  Elle s’admire dans la glac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9.  Ils se téléphonen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0.  Elle se souvient de la fêt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1.  Elles se mettent à pleurer. :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efaites ces phrases au passé composé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 Elle se fâche à l’éco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 s’est fachée à l’éco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 Ils se blessent au matc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s se sont blessés au matc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 Nous nous brossons les cheveu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us nous sommes brossé les cheveu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 Elle mange une pom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 a mangé une pom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 La mère se maquil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mère s’est maquillée. :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efaites ces phrases au passé composé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6.  Ils s’endormen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ls se sont endormi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7.  Elles s’écrivent des lettr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lles se sont écrit des lettr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8.  Elle s’admire dans la glac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lle s’est admirée dans la glac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9.  Ils se téléphonen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ls se sont téléphoné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0.  Elle se souvient de la fêt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lle s’est souvenue de la fêt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1.  Elles se mettent à pleure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lles se sont mises à pleurer. :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4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4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5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56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61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66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7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76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81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y a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o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sages des verbes pronominau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Réfléchi (reflexive)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nesel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ave.  She wash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ersel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 (She gets washed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ave les mains. She washes her (own) han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rosse. He brush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imsel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rosse les cheveux.  He brushes his hai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s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’habillent.  They dres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hemselv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(They get dressed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s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èvent.  They get up.  :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Les pronoms réfléchi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je) me (m’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nous) n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tu) te (t’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vous) v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il) se (s’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ils) se (s’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elle) se (s’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elles) se (s’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Je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répare pour l’école. I prepare myself for school.  (I get ready…)      :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mon Reflexive Verb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572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’amuser to have fu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’appeler  to be call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’arrêter  to stop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’asseoir to si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blesser to get hur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brosser les den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coucher to go to b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’excuser  to apologiz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dépêcher  to hurr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déshabiller to get undress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’endormir  to fall asleep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’ennuyer  to get bo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fâcher to get ang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’habiller  to get dress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laver  to get wash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lever  to get up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maquiller to put on make-up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marier (avec)  to get marri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peigner  to comb one’s hai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promener  to take a walk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rappeler  to remember, recal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raser  to shave oneself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reposer  to res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réveiller  to wake up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taire  to be quie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 trouver to be located :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onnez le pronom réfléchi convenabl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 Il ___ réveil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 Nous ___ promen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 Vous ___ levez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 Je ___ ta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 Tu ___ prép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.  Elles __ invit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 Elle __bles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.  Le père ___ couch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.  Ma soeur et moi ___ endorm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.  Jean-Marc et toi ___ ennuyez.  :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Réciproque (reciprocal)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ach oth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ur les verbes réciproques le sujet </a:t>
            </a:r>
            <a:r>
              <a:rPr b="1" i="1" lang="fr-FR" sz="2800" spc="-1" strike="noStrike">
                <a:solidFill>
                  <a:srgbClr val="ffffff"/>
                </a:solidFill>
                <a:latin typeface="Tahoma"/>
              </a:rPr>
              <a:t>doit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être </a:t>
            </a:r>
            <a:r>
              <a:rPr b="0" i="1" lang="fr-FR" sz="2800" spc="-1" strike="noStrike">
                <a:solidFill>
                  <a:srgbClr val="ffffff"/>
                </a:solidFill>
                <a:latin typeface="Tahoma"/>
              </a:rPr>
              <a:t>plural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o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no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écrivons tous les été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rite to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ach oth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very summ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es fil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éléphonent après l’éco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irls phone each other after school.  :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ote que quelquefois deux traductions sont possibles.  Il est la </a:t>
            </a:r>
            <a:r>
              <a:rPr b="0" lang="fr-FR" sz="2800" spc="-1" strike="noStrike" u="sng">
                <a:solidFill>
                  <a:srgbClr val="ffffff"/>
                </a:solidFill>
                <a:uFillTx/>
                <a:latin typeface="Tahoma"/>
              </a:rPr>
              <a:t>situation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qui détermine la meilleure traduc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admir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admi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mselv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eflex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admi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ach oth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eciproc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l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invit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invit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mselv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eflex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invit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ach oth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eciproc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 :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Idiomati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Quelques expressions verbales utilisent le pronom “se” même si le sens n’est ni soi-même ni nous-mê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 faut apprendre ces verbes comme de nouveau vocabulai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 rendre 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aller = to 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 mettre 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commencer = to beg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 souvenir 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to rem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 moquer 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to make fun of  :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15:49:19Z</dcterms:created>
  <dc:creator>Hugh</dc:creator>
  <dc:description/>
  <dc:language>en-US</dc:language>
  <cp:lastModifiedBy>Lauren Mooney</cp:lastModifiedBy>
  <dcterms:modified xsi:type="dcterms:W3CDTF">2009-09-18T15:14:48Z</dcterms:modified>
  <cp:revision>95</cp:revision>
  <dc:subject/>
  <dc:title>Les Verbes Pronominaux</dc:title>
</cp:coreProperties>
</file>